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55B0-E117-4E25-BFD9-395F6E2E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8296-8DD3-443A-93F5-F8F5A161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CC95-34E4-4513-9D7A-A2E8EB89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FE8-26FD-49B6-984B-CD0CAEBC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C55A-A834-4641-A8B8-5F040679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6029-27C1-407D-8767-8C4FC535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C95-27FB-4864-BA11-399C68E5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5424-A4A7-4FD9-9EA7-F45F1EA1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BB44-6347-46A1-A692-BCC36925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5577-51E2-489D-B539-BAD20E7D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7F98-7D6D-4FBF-886A-3C167D03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E1DD-6FD7-49F6-A53B-F5007282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375D-CBC5-4AF7-B7E5-1192D03DC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5640" y="991800"/>
            <a:ext cx="87627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Jöjj, itt az idő, hogy áldjuk, jöjj, itt az idő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ogy szíved add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Jöjj, bárhogy is érzel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áldd most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jöjj, bárhogy is állj az Úr előtt, jöjj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980640"/>
            <a:ext cx="883944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gy nap minden megvallja: Jézus az Úr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gy nap minden térdet hajt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e légy, Uram, legnagyobb kincsükké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a Hozzád térnek ma.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14:43:02Z</dcterms:created>
  <dc:creator>Sir Robin</dc:creator>
  <dc:description/>
  <dc:language>en-US</dc:language>
  <cp:lastModifiedBy>Balázs</cp:lastModifiedBy>
  <dcterms:modified xsi:type="dcterms:W3CDTF">2008-01-24T14:34:39Z</dcterms:modified>
  <cp:revision>21</cp:revision>
  <dc:subject/>
  <dc:title>Fejet hajt a mindenség lábaid előtt, Neked hódol Föld és ég, minden Rólad beszél. Mondjuk hát: Szent vagy, Urunk! Szent vagy, Urunk!</dc:title>
</cp:coreProperties>
</file>